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30.png" ContentType="image/png"/>
  <Override PartName="/ppt/media/image31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2633FC3-F01E-47EB-B0FA-D33533901FC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EF6E8BA-E803-417B-8F63-C5AF38F3653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83B6AE5-FBF2-41D6-B4F7-1A45AD3D314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D3947CB-F706-4CF6-BF51-420BCC94CEA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6FB8966-0D39-420D-BAE8-69D66BCCB2E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2EBF8DD-39C4-401B-B9D4-4A2ADAAF67A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973C597-E0D4-4BC9-9552-FF59032DFB4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1B2A864-06D2-4185-82CB-F3A237A4789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6C11526-9D0D-4C0C-8AD2-268D05D7683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B7198C5-9910-4914-BF71-175CE0FEF5A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6B76919-95E5-4285-B4A2-79BD8D2650A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C7CB6DE-BB05-42A8-82E6-6636EA19729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9733478-CC61-4499-BF41-1E3CD5F88B0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92017A2-0C86-4BBB-A858-451AFDC443E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6A3E95D-B357-491E-B1C3-311C78286E8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17505EA-6E66-4916-A42C-2CDBC1C2984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0E5CA6E-346E-4C63-83C6-A3035890CAB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03ADD83-80DE-4D7E-B916-AF8467A5D47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A5D3B06-DF72-4EAE-8A92-2D4D63500EC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FA11ED8-5747-43F8-B232-B1487320AEB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864B5B6-1484-4D3A-B624-E50F7D4703E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9DE8ACA-7985-4432-8EDF-428EF9ADAB2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0EB6B40-F665-46FB-9474-9C60B3CF528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62D519E-B326-4295-9304-89CB5FAA9F8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614CDF9-DCE9-40F9-9FDB-7BE2B764593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2258DE7-E6CA-4398-8A47-0BCFEB4F393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7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Pt_CoverArt1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24AF825-8DE6-42CD-AD4A-1CC889CA28D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isco_NewLogo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Cisco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Computer Hardware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50520" y="4679640"/>
            <a:ext cx="7442280" cy="701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ing for Home and Small Businesses – Capítul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y Fabián Monteneg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ipos de computadora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dora de escritorio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da en aplicaciones del día a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ador de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ja de cál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1"/>
          <p:cNvPicPr/>
          <p:nvPr/>
        </p:nvPicPr>
        <p:blipFill>
          <a:blip r:embed="rId1"/>
          <a:stretch/>
        </p:blipFill>
        <p:spPr>
          <a:xfrm>
            <a:off x="4127400" y="3695760"/>
            <a:ext cx="440532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ipos de computadora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1560" y="1725480"/>
            <a:ext cx="7940880" cy="4415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tation – Las estaciones de trabajo son computadoras con gran poder de proces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últiples proces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 cantidad de memoria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macenamiento de alta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 de 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eño asistido por computadora (C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ción y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1"/>
          <p:cNvPicPr/>
          <p:nvPr/>
        </p:nvPicPr>
        <p:blipFill>
          <a:blip r:embed="rId1"/>
          <a:stretch/>
        </p:blipFill>
        <p:spPr>
          <a:xfrm>
            <a:off x="6845400" y="4343400"/>
            <a:ext cx="19033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ipos de computadora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55560" y="1900080"/>
            <a:ext cx="7940880" cy="1710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utadoras portá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mputadoras portátiles son comparables con las de escritorio en cuanto a uso y capacidad de procesamiento. Sin embargo, son dispositivos portátiles creados para ser livianos y emplear menos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560" y="4343040"/>
            <a:ext cx="7940880" cy="1709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and features of portab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1"/>
          <p:cNvPicPr/>
          <p:nvPr/>
        </p:nvPicPr>
        <p:blipFill>
          <a:blip r:embed="rId1"/>
          <a:srcRect l="-4040" t="0" r="0" b="23991"/>
          <a:stretch/>
        </p:blipFill>
        <p:spPr>
          <a:xfrm>
            <a:off x="92160" y="3726000"/>
            <a:ext cx="5352840" cy="260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1"/>
          <p:cNvPicPr/>
          <p:nvPr/>
        </p:nvPicPr>
        <p:blipFill>
          <a:blip r:embed="rId2"/>
          <a:stretch/>
        </p:blipFill>
        <p:spPr>
          <a:xfrm>
            <a:off x="4600440" y="3843360"/>
            <a:ext cx="4408560" cy="218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0000" y="4395960"/>
            <a:ext cx="12776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***Deben consumir poca Ener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epresentación digital de la informació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109600"/>
            <a:ext cx="7986960" cy="4359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seres humanos interpretamos palabras e imá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computadoras sólo interpretan patrones de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r 0 (1=on; 0=o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its = 1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Networkers necesitan comprender amb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epresentación digital de la informació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58360" y="1623960"/>
            <a:ext cx="7473960" cy="4649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humanos utilizamos un sistema en base 10, mientras que las computadoras utilizan un sistema binario. Cómo pasar de un sistema a otr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ácil – Conversiones de base 10 a b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e con los siguientes 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75040" y="4853160"/>
            <a:ext cx="23223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69920" y="5262480"/>
            <a:ext cx="2322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0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79640" y="5684760"/>
            <a:ext cx="23223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1297080" y="3951360"/>
            <a:ext cx="6369120" cy="28461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5043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locidad de transferencia de dato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5560" y="1396800"/>
            <a:ext cx="7940880" cy="396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 del tipo de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P Cab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 del tipo 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os grandes requieren mayor tiempo de des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 de 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epresentación digital de la informació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230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ción y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s – determina la 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tz = ciclos por seg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 MHz = 300 millones de ciclos por seg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1"/>
          <p:cNvPicPr/>
          <p:nvPr/>
        </p:nvPicPr>
        <p:blipFill>
          <a:blip r:embed="rId1"/>
          <a:stretch/>
        </p:blipFill>
        <p:spPr>
          <a:xfrm>
            <a:off x="2133720" y="3944880"/>
            <a:ext cx="42210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Sistema de computació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6203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ensamblado ó hecho a la medida – Cuál debería escoger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jas de un sistema preensambl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nor co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rven para la mayoría de las apl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hay período de espera por a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elen usarlas los consumidores con menos conocimientos, que no tienen exigencias espe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 de un sistema preensambl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lo general, no ofrecen el nivel de rendimiento que se puede obtener con las computadoras personal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Sistema de computació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5560" y="16203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jas de un sistem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cho a la medi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usuario final puede especificar los componentes exactos para satisfacer sus nece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lo general, admiten aplicaciones de mayor rendimiento, como aplicaciones gráficas, aplicaciones para servidores y jue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 de un sistema hecho a la medi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elen costar más que un dispositivo ya ensamb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49258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yor período de espera por el a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1"/>
          <p:cNvPicPr/>
          <p:nvPr/>
        </p:nvPicPr>
        <p:blipFill>
          <a:blip r:embed="rId1"/>
          <a:stretch/>
        </p:blipFill>
        <p:spPr>
          <a:xfrm>
            <a:off x="5521320" y="974880"/>
            <a:ext cx="3384720" cy="3546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7635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5200" y="1765440"/>
            <a:ext cx="4025880" cy="407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tir el tipo y la velocidad de CPU seleccio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tir la cantidad y el tipo de RAM de sistema requeridos por las 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er suficientes ranuras del tipo correcto para aceptar todas las tarjetas de interfaz requer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er suficientes interfaces del tipo cor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1"/>
          <p:cNvPicPr/>
          <p:nvPr/>
        </p:nvPicPr>
        <p:blipFill>
          <a:blip r:embed="rId2"/>
          <a:stretch/>
        </p:blipFill>
        <p:spPr>
          <a:xfrm>
            <a:off x="4618080" y="4546440"/>
            <a:ext cx="44020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o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el propósito y los usos de las computadoras personales y describir las aplicaciones locales y d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r y contrastar los distintos tipos de dispositivos informá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ar la representación binaria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r cuáles son los componentes y dispositivos periféricos adecuados para cumplir con determinados requi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ar, verificar y actualizar componentes y periféricos de una comput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7034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807920"/>
            <a:ext cx="7940880" cy="4660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Processing Unit (CP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io central de una compu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onando el procesado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or velocidad = Mayor 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s energía = Más cali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mover los datos de un lugar a otro como una autop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rápido= Computadora ráp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"/>
          <p:cNvPicPr/>
          <p:nvPr/>
        </p:nvPicPr>
        <p:blipFill>
          <a:blip r:embed="rId1"/>
          <a:stretch/>
        </p:blipFill>
        <p:spPr>
          <a:xfrm>
            <a:off x="5599080" y="4856040"/>
            <a:ext cx="27352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719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1360" y="178128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Access Memory (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acenamiento temporal y volá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acena datos mientras el CPU los proc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ándo se requiere más memoria 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el usuario corre múltiples aplicaciones simultane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dispone de múltiples C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antidad máxima de RAM es determinada por la motherbo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1"/>
          <p:cNvPicPr/>
          <p:nvPr/>
        </p:nvPicPr>
        <p:blipFill>
          <a:blip r:embed="rId1"/>
          <a:stretch/>
        </p:blipFill>
        <p:spPr>
          <a:xfrm>
            <a:off x="4299120" y="4994280"/>
            <a:ext cx="24634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6573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tarjetas agregan funciones a la comput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"/>
          <p:cNvPicPr/>
          <p:nvPr/>
        </p:nvPicPr>
        <p:blipFill>
          <a:blip r:embed="rId1"/>
          <a:stretch/>
        </p:blipFill>
        <p:spPr>
          <a:xfrm>
            <a:off x="669960" y="2146320"/>
            <a:ext cx="78786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26760" y="1704600"/>
            <a:ext cx="7940520" cy="438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2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acenamiento 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25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 d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25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ad de disqu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25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ad de c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1"/>
          <p:cNvPicPr/>
          <p:nvPr/>
        </p:nvPicPr>
        <p:blipFill>
          <a:blip r:embed="rId1"/>
          <a:stretch/>
        </p:blipFill>
        <p:spPr>
          <a:xfrm>
            <a:off x="4444920" y="3733920"/>
            <a:ext cx="4287960" cy="2813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55200" y="719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itivos perifé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 las capacidades de la compu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ada: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ida: impres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se conectan los dispositivos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6170760" y="2386080"/>
            <a:ext cx="2712960" cy="3205080"/>
          </a:xfrm>
          <a:prstGeom prst="rect">
            <a:avLst/>
          </a:prstGeom>
          <a:ln w="0">
            <a:noFill/>
          </a:ln>
        </p:spPr>
      </p:pic>
      <p:sp>
        <p:nvSpPr>
          <p:cNvPr id="174" name="Line 5"/>
          <p:cNvSpPr/>
          <p:nvPr/>
        </p:nvSpPr>
        <p:spPr>
          <a:xfrm flipV="1">
            <a:off x="3559320" y="5136840"/>
            <a:ext cx="2530440" cy="1050840"/>
          </a:xfrm>
          <a:prstGeom prst="line">
            <a:avLst/>
          </a:prstGeom>
          <a:ln w="3168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7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omponentes y periféricos de una computadora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200" y="1644480"/>
            <a:ext cx="5715000" cy="4824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resor de sobrevol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es y periféricos de una computad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S (Uninterruptible Power Supp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un sistema de almacenamiento de energía que se utiliza cuando hay una interrupción del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86680" y="1228680"/>
            <a:ext cx="2360520" cy="1809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002120" y="4764240"/>
            <a:ext cx="2508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4952880" y="4641840"/>
            <a:ext cx="3962520" cy="2048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Instalar, verificar, y actualizar componente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725120"/>
            <a:ext cx="7940880" cy="5002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es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gue la computadora y desconectela de la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si el componente es hot-swapp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nca abra una UPS o un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os operan a muy altos volt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ite las descargas electrost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ce una pulsera con conexión a ti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10480" y="2847960"/>
            <a:ext cx="14191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itar en Ca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4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Instalar, verificar, y actualizar component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/2 – Conecta teclado y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B – Conecta dispositivos Plug-and-Play (Pn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– Conecta modems e impres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– Conecta impres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A – Conecta moni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J11 – Conecta líneas telefó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J45 – Conexión a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1"/>
          <p:cNvPicPr/>
          <p:nvPr/>
        </p:nvPicPr>
        <p:blipFill>
          <a:blip r:embed="rId1"/>
          <a:stretch/>
        </p:blipFill>
        <p:spPr>
          <a:xfrm>
            <a:off x="1584360" y="5081760"/>
            <a:ext cx="57736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187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188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3200" spc="-1" strike="noStrike">
                <a:solidFill>
                  <a:srgbClr val="708ca1"/>
                </a:solidFill>
                <a:latin typeface="Arial"/>
              </a:rPr>
              <a:t>Hacia adonde vamos?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74680" y="1984320"/>
            <a:ext cx="861372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Cómo y dónde se usan las computadora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69040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últiples usos de las comput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1"/>
          <p:cNvPicPr/>
          <p:nvPr/>
        </p:nvPicPr>
        <p:blipFill>
          <a:blip r:embed="rId1"/>
          <a:stretch/>
        </p:blipFill>
        <p:spPr>
          <a:xfrm>
            <a:off x="777960" y="2370240"/>
            <a:ext cx="79502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as computadoras necesitan 3 cosas…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792000" y="1473120"/>
            <a:ext cx="75139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1333440" y="2422440"/>
            <a:ext cx="6332760" cy="4329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Tipos de aplicacione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55560" y="1900080"/>
            <a:ext cx="7802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o comercial/industrial: aplicaciones específicas para tareas determin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o general: aplicaciones que cualquier organización utiliza como Of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Tipos de aplicacione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0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11360" y="2052720"/>
            <a:ext cx="2869920" cy="224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937040" y="2057400"/>
            <a:ext cx="2718000" cy="2163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655560" y="4923000"/>
            <a:ext cx="82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: se ejecuta solo en la comput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– se ejecuta utilizando una red como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e tener dos 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o se ejecuta en la computadora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o se ejecuta en la computadora rem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ipos de computadora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213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computadora tiene un propósi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566640" y="2057400"/>
            <a:ext cx="8115480" cy="178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57360" y="4389480"/>
            <a:ext cx="3105000" cy="198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5010120" y="4378320"/>
            <a:ext cx="3086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Tipos de computadora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2613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dores – se deben mantener en un sitio seguro. (Por qué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servidores son computadoras de alto rendimiento utilizadas en empresas y otras organiz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Wingdings" charset="2"/>
              <a:buChar char="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s CP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Wingdings" charset="2"/>
              <a:buChar char="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 cantidad de memoria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Wingdings" charset="2"/>
              <a:buChar char="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sitivos de almacenamiento de amplia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1"/>
          <p:cNvPicPr/>
          <p:nvPr/>
        </p:nvPicPr>
        <p:blipFill>
          <a:blip r:embed="rId1"/>
          <a:stretch/>
        </p:blipFill>
        <p:spPr>
          <a:xfrm>
            <a:off x="1104840" y="4400640"/>
            <a:ext cx="7543800" cy="2143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99120" y="4184640"/>
            <a:ext cx="128916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uso en el Sue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27560" y="4125960"/>
            <a:ext cx="1289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s atornillado y se monta en una 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60600" y="4021200"/>
            <a:ext cx="128880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pueden montar varias servidores sobre é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ITCR</cp:lastModifiedBy>
  <cp:lastPrinted>1999-01-27T00:54:54Z</cp:lastPrinted>
  <dcterms:modified xsi:type="dcterms:W3CDTF">2008-04-04T02:16:07Z</dcterms:modified>
  <cp:revision>383</cp:revision>
  <dc:subject/>
  <dc:title>Personal Computers and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